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3855E-D7DA-41FE-ABE7-59C17F498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E8F6E-9F76-4D3A-98E1-819FD5362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998B-61B3-4618-A3AE-7101C99AF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56176-1801-4E57-B0B5-A3A84AE6D2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5E7FD-BB18-4F37-B73A-B66ADF9B48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5B346-D611-420A-8160-2395A5F9C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C998-5184-4A0B-B4B8-86CB4DDB5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48186-EB7A-481C-9620-0FB99A5C15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0AF3C-AB3D-46FA-A778-B5F592917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A9B6D-0ABE-4470-8062-B815EA4146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AF486-011F-4974-87E1-54429F89A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97928-E020-4BAA-BC87-05FC89C033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3BB8-A6B7-4782-AC31-60457A0CCC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9C7E-D9F1-442F-BD16-8018B03F45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2189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2590920"/>
            <a:ext cx="8686800" cy="3504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2478"/>
                </a:solidFill>
                <a:latin typeface="Arial Rounded MT Bold"/>
                <a:ea typeface="Tahoma"/>
              </a:rPr>
              <a:t>BREAKOU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2478"/>
                </a:solidFill>
                <a:latin typeface="Arial Rounded MT Bold"/>
                <a:ea typeface="Tahoma"/>
              </a:rPr>
              <a:t>PROPORTION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Arial Rounded MT Bold"/>
                <a:ea typeface="Tahoma"/>
              </a:rPr>
              <a:t>LEARNING GOALS, CONSOLIDATING QUESTIONS AND GOOD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Arial Rounded MT Bold"/>
                <a:ea typeface="Tahoma"/>
              </a:rPr>
              <a:t>What’s the Conn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7030a0"/>
                </a:solidFill>
                <a:uFillTx/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8377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We</a:t>
            </a:r>
            <a:r>
              <a:rPr b="0" lang="en-CA" sz="32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will use Learning Goals to interpret important mathematics and target the mathematical thinking we want to expose and evoke with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We will recognize the link between Learning Goals, Curriculum Expectations, Consolidation Questions, and Big Ideas and the reason for attending to these prior to a lesson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We will know the purpose of considering what a good answer would look l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CA54-3803-4E80-A4F5-5AA71416DD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F1F8-3A1B-4780-ACA8-2963AD78AF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2d050"/>
                </a:solidFill>
                <a:latin typeface="Arial Rounded MT Bold"/>
              </a:rPr>
              <a:t>Minds On</a:t>
            </a:r>
            <a:endParaRPr b="0" lang="en-US" sz="6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Discuss and decide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ith a partner at your table what the goal of each action migh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7484-97D9-4409-B090-54E011E367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762120" y="2286000"/>
            <a:ext cx="7924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usband buys his wife a dozen r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buy a turtle from the pet 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apply to law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new graduate enrols in Spanish les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n employee asks for and accepts extra hours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r son cleans your car without being as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C:\Documents and Settings\Nancy Snyder\Local Settings\Temporary Internet Files\Content.IE5\INMMNCMQ\MC900187587[1].wmf"/>
          <p:cNvPicPr/>
          <p:nvPr/>
        </p:nvPicPr>
        <p:blipFill>
          <a:blip r:embed="rId1"/>
          <a:stretch/>
        </p:blipFill>
        <p:spPr>
          <a:xfrm>
            <a:off x="4648320" y="76320"/>
            <a:ext cx="841320" cy="99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2b5ca9"/>
                </a:solidFill>
                <a:latin typeface="Arial Rounded MT Bold"/>
              </a:rPr>
              <a:t>Conclusion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4400" y="1980720"/>
            <a:ext cx="7315200" cy="259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 Rounded MT Bold"/>
              </a:rPr>
              <a:t>For every action we take we have a goal in m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1364-80D6-44F7-9859-4E30B27B78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 Rounded MT Bold"/>
              </a:rPr>
              <a:t>Action</a:t>
            </a:r>
            <a:endParaRPr b="0" lang="en-US" sz="6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f-select a group of 3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ke 40 minutes to complete 2 of the 3 activities on your 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LM 2.1  Which is Bes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LM 2.2. The Learning Goal-Consolid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LM 2.3  Improving Learning Go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D446-0C36-45C0-98D9-545F1FC5E4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6" descr="C:\Documents and Settings\Nancy Snyder\Local Settings\Temporary Internet Files\Content.IE5\4E0NEPZG\MC900104872[1].wmf"/>
          <p:cNvPicPr/>
          <p:nvPr/>
        </p:nvPicPr>
        <p:blipFill>
          <a:blip r:embed="rId1"/>
          <a:stretch/>
        </p:blipFill>
        <p:spPr>
          <a:xfrm>
            <a:off x="228600" y="61920"/>
            <a:ext cx="1600200" cy="12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-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Arial Rounded MT Bold"/>
              </a:rPr>
              <a:t>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7617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Whole Group</a:t>
            </a:r>
            <a:r>
              <a:rPr b="1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Sharing - activity decisions,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      thoughts,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Arial"/>
              </a:rPr>
              <a:t>Questions to Cons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Arial"/>
              </a:rPr>
              <a:t>What was challenging about these tasks?  What did you find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Arial"/>
              </a:rPr>
              <a:t>What is the difference between a learning goal and a curriculum expectation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Arial"/>
              </a:rPr>
              <a:t>When/why might you choose not to reveal the LG at the beginning of the les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Arial"/>
              </a:rPr>
              <a:t>Why is it important for us to consider what a good answer will look lik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B902-5E33-4785-A329-FBB176DB3F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7030a0"/>
                </a:solidFill>
                <a:latin typeface="Arial"/>
              </a:rPr>
              <a:t>Reflection</a:t>
            </a:r>
            <a:r>
              <a:rPr b="1" lang="en-CA" sz="4400" spc="-1" strike="noStrike">
                <a:solidFill>
                  <a:srgbClr val="2b5ca9"/>
                </a:solidFill>
                <a:latin typeface="Arial"/>
              </a:rPr>
              <a:t>  </a:t>
            </a:r>
            <a:r>
              <a:rPr b="0" i="1" lang="en-CA" sz="3000" spc="-1" strike="noStrike">
                <a:solidFill>
                  <a:srgbClr val="7030a0"/>
                </a:solidFill>
                <a:latin typeface="Arial"/>
              </a:rPr>
              <a:t>Take a few moments to . . .</a:t>
            </a:r>
            <a:endParaRPr b="0" lang="en-US" sz="3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990360"/>
            <a:ext cx="8077320" cy="2438280"/>
          </a:xfrm>
          <a:prstGeom prst="rect">
            <a:avLst/>
          </a:prstGeom>
          <a:noFill/>
          <a:ln w="12600">
            <a:solidFill>
              <a:srgbClr val="002060"/>
            </a:solidFill>
            <a:miter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dividual </a:t>
            </a:r>
            <a:r>
              <a:rPr b="1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Journal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How are you providing Learning Goals for your studen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Why is it useful to consider the Consolidating Question(s), to be used at the end of a lesson, once you have determined the Learning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F199-08AA-47CE-9CD7-18891E14D0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6019920" y="1066680"/>
            <a:ext cx="922320" cy="38124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914400" y="3733920"/>
            <a:ext cx="739152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andana  - record a new strategy or idea I lear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bout this break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ost-its:  Post a question or a comment about L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nd CQ’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Image Builder</cp:lastModifiedBy>
  <dcterms:modified xsi:type="dcterms:W3CDTF">2011-08-12T15:36:37Z</dcterms:modified>
  <cp:revision>76</cp:revision>
  <dc:subject/>
  <dc:title>&lt;Title&gt;</dc:title>
</cp:coreProperties>
</file>